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ACE-64A2-46C9-97AE-DA810578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373-C018-425B-A929-7A3FDEF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1CD-CDB5-406B-AF5F-0193148E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D8C-3B71-4C46-8DC0-0EA763FB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15E-41DA-410F-B6B6-988ACAC4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9D2-A337-4435-8D3D-B156D99A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DDC-D99A-4333-8101-867FB3F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DD4-2470-4C45-8EAB-EB5677E6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837-EC04-4D0B-BE64-9CF87AD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99A-CCC8-4794-B23B-7551B31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0AC-B654-4FA0-AC49-F04453B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65D-4678-4D4A-8862-37EEE47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119C-6FCF-45DD-A1B5-1A562DF0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apollo.lsc.vsc.edu/classes/met130/notes/chapter6/graphics/cb_anvil_pictex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Science Pract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and Objects in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uses the seasons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 of the earth on its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th is closer to the sun in summer and further from the sun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lt of the earth on its axis as it revolves aroun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y pulling the earth towar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952880" y="838080"/>
          <a:ext cx="321804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838080"/>
                    <a:ext cx="32180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CorShape1"/>
          <p:cNvSpPr/>
          <p:nvPr/>
        </p:nvSpPr>
        <p:spPr>
          <a:xfrm>
            <a:off x="-20520" y="3962520"/>
            <a:ext cx="596880" cy="59688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kn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876920" y="4446720"/>
            <a:ext cx="4038480" cy="24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hurricanes need to get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rShape1"/>
          <p:cNvSpPr/>
          <p:nvPr/>
        </p:nvSpPr>
        <p:spPr>
          <a:xfrm>
            <a:off x="223920" y="349560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Countdown"/>
          <p:cNvGrpSpPr/>
          <p:nvPr/>
        </p:nvGrpSpPr>
        <p:grpSpPr>
          <a:xfrm>
            <a:off x="8381880" y="1492200"/>
            <a:ext cx="634680" cy="4127400"/>
            <a:chOff x="8381880" y="1492200"/>
            <a:chExt cx="634680" cy="4127400"/>
          </a:xfrm>
        </p:grpSpPr>
        <p:sp>
          <p:nvSpPr>
            <p:cNvPr id="49" name="CDLine"/>
            <p:cNvSpPr/>
            <p:nvPr/>
          </p:nvSpPr>
          <p:spPr>
            <a:xfrm>
              <a:off x="8699400" y="1809720"/>
              <a:ext cx="0" cy="3809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CDBall"/>
            <p:cNvSpPr/>
            <p:nvPr/>
          </p:nvSpPr>
          <p:spPr>
            <a:xfrm>
              <a:off x="8381880" y="1492200"/>
              <a:ext cx="634680" cy="63504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5040"/>
                <a:gd name="textAreaBottom" fmla="*/ 490320 h 6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making landfall, hurricanes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CorShape1"/>
          <p:cNvSpPr/>
          <p:nvPr/>
        </p:nvSpPr>
        <p:spPr>
          <a:xfrm>
            <a:off x="1133640" y="3252960"/>
            <a:ext cx="3160440" cy="1168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ffect the place where it makes landfall with storms and high w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ff lots of clouds and thunderstorms that may affect areas far from land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strength and continue to move as a hurricane inland through the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cture shows an example of the most common form of high-level clouds. They are thin and wispy. They usually occur in fair weather. What type of cloud are they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5587920" y="1714680"/>
          <a:ext cx="355608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920" y="1714680"/>
                    <a:ext cx="35560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666880" y="3657600"/>
            <a:ext cx="3124440" cy="2325600"/>
          </a:xfrm>
          <a:prstGeom prst="rect">
            <a:avLst/>
          </a:prstGeom>
          <a:ln w="0">
            <a:noFill/>
          </a:ln>
        </p:spPr>
      </p:pic>
      <p:sp>
        <p:nvSpPr>
          <p:cNvPr id="63" name="CorShape1"/>
          <p:cNvSpPr/>
          <p:nvPr/>
        </p:nvSpPr>
        <p:spPr>
          <a:xfrm>
            <a:off x="1133640" y="3184560"/>
            <a:ext cx="123336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re storms with lots of lightning and thunder and heavy winds usually occur in what type of clo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TPChart"/>
          <p:cNvGraphicFramePr/>
          <p:nvPr/>
        </p:nvGraphicFramePr>
        <p:xfrm>
          <a:off x="5722920" y="1714680"/>
          <a:ext cx="3421080" cy="38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2920" y="1714680"/>
                    <a:ext cx="342108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CorShape1"/>
          <p:cNvSpPr/>
          <p:nvPr/>
        </p:nvSpPr>
        <p:spPr>
          <a:xfrm>
            <a:off x="223920" y="3495600"/>
            <a:ext cx="291960" cy="2923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s" descr="">
            <a:hlinkClick r:id="rId3"/>
          </p:cNvPr>
          <p:cNvPicPr/>
          <p:nvPr/>
        </p:nvPicPr>
        <p:blipFill>
          <a:blip r:embed="rId4">
            <a:grayscl/>
          </a:blip>
          <a:stretch/>
        </p:blipFill>
        <p:spPr>
          <a:xfrm>
            <a:off x="1905120" y="3962520"/>
            <a:ext cx="3019320" cy="19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nderstorms are weather patterns that frequently happen in Central Texas.  Which statement tells why Central Texas experiences thunderstorm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CorShape1"/>
          <p:cNvSpPr/>
          <p:nvPr/>
        </p:nvSpPr>
        <p:spPr>
          <a:xfrm>
            <a:off x="1133640" y="3544920"/>
            <a:ext cx="3022560" cy="1168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lot of water in Central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, moist air from the North meets warm, dry air from the Gulf of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, dry air from the North meets warm, moist air from the Gulf of Mex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 air from the North meets warm air from the Gulf of Mex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es are differences in the water level of the Earth’s oceans.  Which statement is NOT true about t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CorShape1"/>
          <p:cNvSpPr/>
          <p:nvPr/>
        </p:nvSpPr>
        <p:spPr>
          <a:xfrm rot="10800000">
            <a:off x="41400" y="3060720"/>
            <a:ext cx="520560" cy="5205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are caused by changes in gravity as the moon revolves around the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change one time a day as the moon changes 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can be affected by weather systems like hurric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are affected by the gravity of the moon, Sun, and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uses the Moon’s appearance to change during lunar cy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 revolving around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revolving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 moving toward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rotating on its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rShape1"/>
          <p:cNvSpPr/>
          <p:nvPr/>
        </p:nvSpPr>
        <p:spPr>
          <a:xfrm>
            <a:off x="-173160" y="1908000"/>
            <a:ext cx="787680" cy="7876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ximately how long does a lunar cycle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rShape1"/>
          <p:cNvSpPr/>
          <p:nvPr/>
        </p:nvSpPr>
        <p:spPr>
          <a:xfrm>
            <a:off x="223920" y="2327400"/>
            <a:ext cx="291960" cy="291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8:20:12Z</dcterms:created>
  <dc:creator>xpsetup</dc:creator>
  <dc:description/>
  <dc:language>en-US</dc:language>
  <cp:lastModifiedBy>xpsetup</cp:lastModifiedBy>
  <dcterms:modified xsi:type="dcterms:W3CDTF">2007-12-18T15:34:39Z</dcterms:modified>
  <cp:revision>5</cp:revision>
  <dc:subject/>
  <dc:title>Slide 1</dc:title>
</cp:coreProperties>
</file>